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A36-DD3E-427B-857A-CE063BA7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310-6E68-438A-AE41-E9ED44BC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995-9B5D-48BD-9CE1-672999E5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264-6E7C-47FB-BBC0-C4D124A3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5084-8352-4073-9EF2-6FD7F54A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150C-6834-4C49-ABDD-FDC0BC7C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93B9-1942-47E0-BECB-5FA12D35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A444-1E62-428F-AAE2-4372D57E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8323-EA6A-41E9-A595-320F946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5661-D785-4464-BA89-9E9EA459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F48B-6696-4CCC-861D-49B40A2D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D01-4C93-44A7-9617-366D887B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63EA-13CD-445A-ABD2-EBB6288A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A757-5352-489C-93EC-38D8C456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466C-A0D3-4D58-9C78-BFC8121C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FAC5-6691-4EA5-8340-41EE6B4A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452B-1277-4113-A460-BFE23B82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7CA-DD32-497F-997B-7BCE182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073-4B67-4A59-ADA7-E26BE19C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4B3-6413-4DA8-9406-CFA224C3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8E9-4F42-4BA2-AE9B-4E638AD2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D85-A290-4CE5-8749-270669D5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275-6C2D-412D-B495-94CB802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C95-A406-4427-90B2-A6C5F63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B767-ACC2-4C93-A5CA-699B1E498D9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EE5-5D0E-41F6-8FE3-B9D0BD820AA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功能指令及其通用规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程序流程类指令的基本编程方法及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功能指令在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9600" y="213300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警戒时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2708280"/>
          <a:ext cx="59054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5905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55628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彩灯的两种闪烁模式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211640" cy="402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30080" y="227664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78626" t="0" r="0" b="0"/>
          <a:stretch/>
        </p:blipFill>
        <p:spPr>
          <a:xfrm>
            <a:off x="7926480" y="2276640"/>
            <a:ext cx="1217520" cy="4176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0" r="29658" b="0"/>
          <a:stretch/>
        </p:blipFill>
        <p:spPr>
          <a:xfrm>
            <a:off x="3892680" y="2349360"/>
            <a:ext cx="39020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87200" y="170028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多工作方式的小车行程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359160"/>
            <a:ext cx="76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子程序调用指令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各种用途开关类电器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入控制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13440" cy="169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3456000" cy="210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259160" y="1557360"/>
            <a:ext cx="4884840" cy="5300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83960" y="3788640"/>
            <a:ext cx="26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车行程控制系统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16600" y="63586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面板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原理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42467" r="0" b="2745"/>
          <a:stretch/>
        </p:blipFill>
        <p:spPr>
          <a:xfrm>
            <a:off x="4656240" y="2205000"/>
            <a:ext cx="4487760" cy="4653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程序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0" t="0" r="0" b="57677"/>
          <a:stretch/>
        </p:blipFill>
        <p:spPr>
          <a:xfrm>
            <a:off x="0" y="2965320"/>
            <a:ext cx="4861080" cy="3892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57360" y="2276640"/>
            <a:ext cx="17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28605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思考下列问题，将正确的答案填入空白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条件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将不执行该指令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位元件，即由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成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设计一个报警电路。输入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报警输入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亮，闪烁频率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报警蜂鸣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音响输出，报警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由闪烁变为常亮且停止音响；按下报警解除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报警灯熄灭。为测试报警灯和报警蜂鸣器的好坏，可用测试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时测试。试画出控制程序梯形图、写出语句表，并加注释。（提示：可分别将报警和报警响应两种状态用两段子程序编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64160" y="162864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92480" y="2275920"/>
            <a:ext cx="2251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功能指令的表达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553080" cy="129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87040" y="306792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格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280" y="492228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达形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17880" y="4941720"/>
            <a:ext cx="694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7920" y="1988640"/>
            <a:ext cx="1337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71160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3755880" cy="716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3759480" cy="716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101720" y="24210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3360" y="33577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6040" y="4292640"/>
            <a:ext cx="18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（慎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059280" y="5589720"/>
            <a:ext cx="4176720" cy="761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4941000"/>
            <a:ext cx="275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脉冲执行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240" y="83628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0920" y="1912320"/>
            <a:ext cx="36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元件及字元件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000" y="154980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64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89960" y="1988280"/>
            <a:ext cx="325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48160" y="2452680"/>
            <a:ext cx="4356000" cy="4162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9440" y="3714480"/>
            <a:ext cx="32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50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+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0160" y="31978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第三行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36880" y="220428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条件跳转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516480" y="2232000"/>
          <a:ext cx="547200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6480" y="2232000"/>
                    <a:ext cx="547200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36440" y="31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4000" y="3328920"/>
            <a:ext cx="3127320" cy="352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643280" y="4149720"/>
            <a:ext cx="4176720" cy="230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2781360"/>
            <a:ext cx="2089080" cy="360360"/>
          </a:xfrm>
          <a:prstGeom prst="wedgeRoundRectCallout">
            <a:avLst>
              <a:gd name="adj1" fmla="val -23935"/>
              <a:gd name="adj2" fmla="val 10991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4149720"/>
            <a:ext cx="576360" cy="1943280"/>
          </a:xfrm>
          <a:prstGeom prst="wedgeRoundRectCallout">
            <a:avLst>
              <a:gd name="adj1" fmla="val 103166"/>
              <a:gd name="adj2" fmla="val 678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双重跳转指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640" y="69192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762800"/>
            <a:ext cx="1873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子程序调用及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628640"/>
          <a:ext cx="5580000" cy="27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558000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771640" y="3213000"/>
            <a:ext cx="3017880" cy="3357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940360" y="2349360"/>
            <a:ext cx="3102120" cy="4104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5877000"/>
            <a:ext cx="1800360" cy="753840"/>
          </a:xfrm>
          <a:prstGeom prst="wedgeRoundRectCallout">
            <a:avLst>
              <a:gd name="adj1" fmla="val 53615"/>
              <a:gd name="adj2" fmla="val -16852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指令的应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1700280"/>
            <a:ext cx="2448000" cy="433440"/>
          </a:xfrm>
          <a:prstGeom prst="wedgeRoundRectCallout">
            <a:avLst>
              <a:gd name="adj1" fmla="val -15888"/>
              <a:gd name="adj2" fmla="val 12985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的嵌套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48200" y="1889280"/>
            <a:ext cx="4195800" cy="496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628280"/>
            <a:ext cx="37911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03560" y="278064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中断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3789360"/>
          <a:ext cx="475128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89360"/>
                    <a:ext cx="4751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204280"/>
            <a:ext cx="3058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主程序结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2781360"/>
          <a:ext cx="525600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525600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014840" y="393300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36440" y="4581360"/>
            <a:ext cx="5400720" cy="161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651640" y="2708280"/>
            <a:ext cx="3492360" cy="2778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 rot="10800000">
            <a:off x="5651280" y="587592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程序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05:52:25Z</dcterms:modified>
  <cp:revision>113</cp:revision>
  <dc:subject/>
  <dc:title>模块二  S7-200系列PLC的基本结构 </dc:title>
</cp:coreProperties>
</file>